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A7A7-5A07-4BBF-B0AF-7DC64C24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1F51-DD24-4BFA-9466-E3B3F0A6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625C-1F48-4D18-B901-B28E0D5E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9EEA-C8E9-4638-AC90-BAE2A70E7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59F0-3A07-4C15-907C-9EC22265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D9E0-27AF-4273-8DAC-7D2E053E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E7C4-88F8-4C2F-8046-8B651B18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1994-5100-4F7B-918E-0150795B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D8D8-6C7C-49B1-BB5A-DF5BC99D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F0D2-7E60-49A1-981D-0531115E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57AB-2FDB-454C-A217-661DA9DC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CED6-DCE7-40CC-A7AC-52EBD519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DCA2-530F-4375-830E-648DFA14B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ise of Sta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To understand how Stalin was able to rise to power in the US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</a:rPr>
              <a:t>Starter activity: Dustbin game on Lenin’s Rus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was Stal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ame: Joseph Dzhugashv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n: Georgia 1878 or 18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class: mother was a seamstress and father was a shoem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Bolshevik, very loyal to Le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ssar for Nationalities after October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ointed ‘General Secretary’ of the Communist Party in 19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would succeed Len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death of Lenin on 21st Jan 1924 the Party declared it would rule by committee - the key members working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 it was clear that already a power struggle was emerging: who would w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id Lenin thin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Lenin’s last will and test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title ‘Lenins last will and testament’ on a piece of paper and attempt th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the impact of the Last Will and Testament would be on the chances of Stalin and Trotsky if it was made publ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in wanted it to be read out at the party conference after his death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has the most to gain from covering it 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lwich</cp:lastModifiedBy>
  <dcterms:modified xsi:type="dcterms:W3CDTF">2007-11-16T07:33:01Z</dcterms:modified>
  <cp:revision>1</cp:revision>
  <dc:subject/>
  <dc:title>The Rise of Stalin</dc:title>
</cp:coreProperties>
</file>